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6F1-80AC-4FDC-BC89-09EA9D60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F9B-83CC-424F-9AB4-1DD01646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C93D-A05A-43B3-876C-188AC864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66F-3537-4A05-BEF2-EC974015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FD4-1BF1-4616-82FE-9E7CD49A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C3A-FDE0-4C8D-94B5-D3F2EA23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0D8-3166-41A8-AFEF-3D4337C9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002-B75B-4C40-981B-CB5F5142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17E-339C-4CC8-994F-65220A09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D04-A3C5-4568-BA8E-94FAAE0F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7E6-7376-442D-A741-AABEA12D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D19-9501-4282-9103-927A5DBD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E629-C83F-40EA-ACB7-E48DAF843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1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60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RDERS  ASSOC.                 BORDERS  ASSOC  100TH                      BERWICKSHIRE  ASSOC.                    ABBOTTSFORD                                ABBOTSFORD                           ABOTTSFORD  100TH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76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CRUM                                             AYTON                                              AYTON                                                 BERWICK                                       BERWICK                                        BERWICK  100TH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RNSIDE                                    CHIRNSIDE                                       CHIRNSIDE  75TH                                COLDSTREAM                               COLDSTREAM                                    COLDSTRE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ROUGHTON  PUBLIC                           BUCCLEUGH                                       BUCCLEUGH                                   BUCCLEUGH                                       BUCCLEUGH                                   BUCCLEUGH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1800" y="620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728880" y="62064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168880" y="476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681960" y="47628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337600" y="404640"/>
            <a:ext cx="102384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31800" y="220500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728880" y="2276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2216160" y="2349360"/>
            <a:ext cx="822240" cy="95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168880" y="2133720"/>
            <a:ext cx="122544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6753240" y="227664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8408880" y="2133720"/>
            <a:ext cx="1042920" cy="113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560520" y="378936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2000160" y="37893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3728880" y="393372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240160" y="3933720"/>
            <a:ext cx="1043280" cy="1024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6824520" y="400536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337600" y="386064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704880" y="5877000"/>
            <a:ext cx="895320" cy="77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2144880" y="58053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3800520" y="5661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6824520" y="55897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8553600" y="5661000"/>
            <a:ext cx="749160" cy="95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384880" y="5300640"/>
            <a:ext cx="947520" cy="1306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2000160" y="333360"/>
            <a:ext cx="1190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3:26:42Z</dcterms:created>
  <dc:creator>JOHN YOUNG</dc:creator>
  <dc:description/>
  <dc:language>en-US</dc:language>
  <cp:lastModifiedBy>JY</cp:lastModifiedBy>
  <dcterms:modified xsi:type="dcterms:W3CDTF">2008-04-29T08:41:01Z</dcterms:modified>
  <cp:revision>28</cp:revision>
  <dc:subject/>
  <dc:title>No Slide Title</dc:title>
</cp:coreProperties>
</file>